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6EEA7E-C99C-42F8-8935-471489E60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C3D48D-5C28-42EC-8ABA-BED149D8A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B3793F-5CDB-4B80-986D-5651E8A22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C2F109-CAD6-4952-9DAC-9FDD6A1A5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4EC8F5-22DE-4DC1-855F-27CFF622E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11D359-DE40-4DCF-9D06-542E8059A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5218D2-092B-4600-939B-8BE641D99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F3F8E5-FF2F-4022-BDFE-6BF00FFAB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9941D4-5FBA-4534-999A-6433C899F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0940DE-015A-488E-B020-89B223F91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14E7A3-6B5E-4B9D-AEC8-C95B67823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E95ACB-3B71-4713-9596-38E6B7846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97381A-1C6C-47D1-B736-C8CAED5B5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CFA231-8EF6-4738-B96F-11A8AD0A7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545AC-23C9-4DE1-BB28-2AED93AB73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22B6D-29B5-44C8-B893-8CA18F0B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8505D-8AC0-433F-BD31-ABDFE0B0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DB24F-73DE-4005-B06E-12844489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2EF25-7182-4D68-BBEB-2669EF64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2B047-0F24-458C-BC4B-3DA3E9D0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6C9AC-8F15-4D4D-81BE-C242BADC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C0600-28CD-48FA-82A0-742A6B45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E385A-9908-445D-ABF0-01B11F1A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6B735-8BC8-4BFB-A9BF-AE2B7E60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82590-FE11-440D-9968-E9606CC3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5E139-0D10-42A8-A90F-5156F59B5C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63FA-CFB0-418E-AC36-D708A07641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6BA8-37A8-450A-9723-7F75EC85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05F5-E712-4F1A-891C-5A40B8CF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3443-049B-419E-A30A-8A62ABC6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F3DF-B699-4942-A953-E8B844EB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654F-5E5F-44F5-A928-C90710C7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0F79-3FFF-432B-A158-307D43C7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B284-976F-4997-9139-45247ED7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205E-CE04-46D9-A096-D387F6CF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DB79-91CB-4CA9-8B8E-0956E7A8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205A-93C0-469E-9ED0-D4073021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D820-97A9-48BA-B18D-8C7E2CD018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 hidden="1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2" name="未知" hidden="1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3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21"/>
          <p:cNvPicPr/>
          <p:nvPr/>
        </p:nvPicPr>
        <p:blipFill>
          <a:blip r:embed="rId4"/>
          <a:stretch/>
        </p:blipFill>
        <p:spPr>
          <a:xfrm>
            <a:off x="0" y="6480"/>
            <a:ext cx="9143640" cy="6086160"/>
          </a:xfrm>
          <a:prstGeom prst="rect">
            <a:avLst/>
          </a:prstGeom>
          <a:ln w="0">
            <a:noFill/>
          </a:ln>
        </p:spPr>
      </p:pic>
      <p:sp>
        <p:nvSpPr>
          <p:cNvPr id="6" name="未知"/>
          <p:cNvSpPr/>
          <p:nvPr/>
        </p:nvSpPr>
        <p:spPr>
          <a:xfrm>
            <a:off x="0" y="1792440"/>
            <a:ext cx="9097560" cy="340920"/>
          </a:xfrm>
          <a:custGeom>
            <a:avLst/>
            <a:gdLst>
              <a:gd name="textAreaLeft" fmla="*/ 0 w 9097560"/>
              <a:gd name="textAreaRight" fmla="*/ 9097920 w 909756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grpSp>
        <p:nvGrpSpPr>
          <p:cNvPr id="7" name="Group 4"/>
          <p:cNvGrpSpPr/>
          <p:nvPr/>
        </p:nvGrpSpPr>
        <p:grpSpPr>
          <a:xfrm>
            <a:off x="0" y="-360"/>
            <a:ext cx="9143640" cy="2089080"/>
            <a:chOff x="0" y="-360"/>
            <a:chExt cx="9143640" cy="2089080"/>
          </a:xfrm>
        </p:grpSpPr>
        <p:grpSp>
          <p:nvGrpSpPr>
            <p:cNvPr id="8" name="Group 5"/>
            <p:cNvGrpSpPr/>
            <p:nvPr/>
          </p:nvGrpSpPr>
          <p:grpSpPr>
            <a:xfrm>
              <a:off x="28440" y="-360"/>
              <a:ext cx="9115200" cy="1790640"/>
              <a:chOff x="28440" y="-360"/>
              <a:chExt cx="9115200" cy="1790640"/>
            </a:xfrm>
          </p:grpSpPr>
          <p:sp>
            <p:nvSpPr>
              <p:cNvPr id="9" name="Rectangle 6"/>
              <p:cNvSpPr/>
              <p:nvPr/>
            </p:nvSpPr>
            <p:spPr>
              <a:xfrm flipV="1">
                <a:off x="28440" y="-720"/>
                <a:ext cx="9115200" cy="17902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0" name="Rectangle 7"/>
              <p:cNvSpPr/>
              <p:nvPr/>
            </p:nvSpPr>
            <p:spPr>
              <a:xfrm flipV="1">
                <a:off x="28440" y="1689120"/>
                <a:ext cx="9115200" cy="10080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11" name="未知"/>
            <p:cNvSpPr/>
            <p:nvPr/>
          </p:nvSpPr>
          <p:spPr>
            <a:xfrm>
              <a:off x="0" y="1733400"/>
              <a:ext cx="9097560" cy="355320"/>
            </a:xfrm>
            <a:custGeom>
              <a:avLst/>
              <a:gdLst>
                <a:gd name="textAreaLeft" fmla="*/ 0 w 9097560"/>
                <a:gd name="textAreaRight" fmla="*/ 9097920 w 9097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2" name="Group 9"/>
          <p:cNvGrpSpPr/>
          <p:nvPr/>
        </p:nvGrpSpPr>
        <p:grpSpPr>
          <a:xfrm>
            <a:off x="0" y="4689000"/>
            <a:ext cx="9143640" cy="2168640"/>
            <a:chOff x="0" y="4689000"/>
            <a:chExt cx="9143640" cy="2168640"/>
          </a:xfrm>
        </p:grpSpPr>
        <p:grpSp>
          <p:nvGrpSpPr>
            <p:cNvPr id="13" name="Group 10"/>
            <p:cNvGrpSpPr/>
            <p:nvPr/>
          </p:nvGrpSpPr>
          <p:grpSpPr>
            <a:xfrm>
              <a:off x="28440" y="5042160"/>
              <a:ext cx="9115200" cy="1815480"/>
              <a:chOff x="28440" y="5042160"/>
              <a:chExt cx="9115200" cy="1815480"/>
            </a:xfrm>
          </p:grpSpPr>
          <p:sp>
            <p:nvSpPr>
              <p:cNvPr id="14" name="Rectangle 11"/>
              <p:cNvSpPr/>
              <p:nvPr/>
            </p:nvSpPr>
            <p:spPr>
              <a:xfrm>
                <a:off x="28440" y="5042160"/>
                <a:ext cx="9115200" cy="181548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" name="Rectangle 12"/>
              <p:cNvSpPr/>
              <p:nvPr/>
            </p:nvSpPr>
            <p:spPr>
              <a:xfrm>
                <a:off x="28440" y="5042160"/>
                <a:ext cx="9115200" cy="10152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0" y="4689000"/>
              <a:ext cx="9097560" cy="405360"/>
              <a:chOff x="0" y="4689000"/>
              <a:chExt cx="9097560" cy="405360"/>
            </a:xfrm>
          </p:grpSpPr>
          <p:sp>
            <p:nvSpPr>
              <p:cNvPr id="17" name="未知"/>
              <p:cNvSpPr/>
              <p:nvPr/>
            </p:nvSpPr>
            <p:spPr>
              <a:xfrm flipV="1">
                <a:off x="0" y="4688280"/>
                <a:ext cx="9097560" cy="3459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45960"/>
                  <a:gd name="textAreaBottom" fmla="*/ 345960 h 34596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 flipV="1">
                <a:off x="0" y="4733280"/>
                <a:ext cx="9097560" cy="3603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0" name="AutoShape 17"/>
            <p:cNvSpPr/>
            <p:nvPr/>
          </p:nvSpPr>
          <p:spPr>
            <a:xfrm>
              <a:off x="42840" y="38160"/>
              <a:ext cx="9062640" cy="6781320"/>
            </a:xfrm>
            <a:prstGeom prst="roundRect">
              <a:avLst>
                <a:gd name="adj" fmla="val 6227"/>
              </a:avLst>
            </a:prstGeom>
            <a:noFill/>
            <a:ln w="76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468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2" name="未知"/>
            <p:cNvSpPr/>
            <p:nvPr/>
          </p:nvSpPr>
          <p:spPr>
            <a:xfrm rot="16191600">
              <a:off x="-74520" y="6397920"/>
              <a:ext cx="533160" cy="3837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8763120" y="6315120"/>
              <a:ext cx="380520" cy="55224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4" name="未知"/>
            <p:cNvSpPr/>
            <p:nvPr/>
          </p:nvSpPr>
          <p:spPr>
            <a:xfrm rot="5400000">
              <a:off x="868716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25" name="Picture 24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79640" cy="103788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6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chemeClr val="accent1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第三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2EF9F21-E1D0-4871-88A0-0FFCE42D85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dt" idx="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ldNum" idx="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96A98A4-5463-48EB-8E09-ADF8E12FBA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15"/>
          </p:nvPr>
        </p:nvSpPr>
        <p:spPr>
          <a:xfrm>
            <a:off x="4572000" y="6524640"/>
            <a:ext cx="115200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198A3D4-E1F9-4412-ACE1-70295033CA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755640" y="1413000"/>
            <a:ext cx="820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Num" idx="16"/>
          </p:nvPr>
        </p:nvSpPr>
        <p:spPr>
          <a:xfrm>
            <a:off x="442764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2928DDD-168A-4816-98C6-A8FD23D029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79280" y="1413000"/>
            <a:ext cx="8784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7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F602710-6E4D-4B91-B392-51E1D37D2B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967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Num" idx="18"/>
          </p:nvPr>
        </p:nvSpPr>
        <p:spPr>
          <a:xfrm>
            <a:off x="471636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735CA3F-D3D5-451B-825B-F618231426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280" y="1341360"/>
            <a:ext cx="86785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Num" idx="19"/>
          </p:nvPr>
        </p:nvSpPr>
        <p:spPr>
          <a:xfrm>
            <a:off x="4356000" y="6524640"/>
            <a:ext cx="10792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50DC7EC-8140-43AD-B31D-992DC1E9E9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地西泮、氯氮䓬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Num" idx="20"/>
          </p:nvPr>
        </p:nvSpPr>
        <p:spPr>
          <a:xfrm>
            <a:off x="4572000" y="6524640"/>
            <a:ext cx="1007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73FB6ED-7520-4EF5-945F-29344E5773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21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35A52E2-4564-4B80-8AB3-CF26969A1E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2544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22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2C2FFE7-6957-4488-81EF-381278ECE2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120" y="1413000"/>
            <a:ext cx="8610120" cy="4963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2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A24B8D9-E4F0-468C-BCEC-719D3E8AE2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71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24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A83C698-79D6-4F45-A7E4-FFB83DA509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60360" y="285840"/>
            <a:ext cx="2232000" cy="785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43280" y="2061000"/>
            <a:ext cx="3960360" cy="369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819440" y="2219400"/>
            <a:ext cx="688680" cy="593280"/>
            <a:chOff x="1819440" y="2219400"/>
            <a:chExt cx="688680" cy="593280"/>
          </a:xfrm>
        </p:grpSpPr>
        <p:sp>
          <p:nvSpPr>
            <p:cNvPr id="165" name="AutoShape 5"/>
            <p:cNvSpPr/>
            <p:nvPr/>
          </p:nvSpPr>
          <p:spPr>
            <a:xfrm>
              <a:off x="1825200" y="222948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6" name="AutoShape 6"/>
            <p:cNvSpPr/>
            <p:nvPr/>
          </p:nvSpPr>
          <p:spPr>
            <a:xfrm>
              <a:off x="1819440" y="221940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68" name="Text Box 8"/>
          <p:cNvSpPr/>
          <p:nvPr/>
        </p:nvSpPr>
        <p:spPr>
          <a:xfrm>
            <a:off x="1990800" y="2276640"/>
            <a:ext cx="31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819440" y="2981160"/>
            <a:ext cx="686880" cy="593280"/>
          </a:xfrm>
          <a:prstGeom prst="hexagon">
            <a:avLst>
              <a:gd name="adj" fmla="val 28944"/>
              <a:gd name="vf" fmla="val 115470"/>
            </a:avLst>
          </a:prstGeom>
          <a:gradFill rotWithShape="0">
            <a:gsLst>
              <a:gs pos="0">
                <a:srgbClr val="3f5c66"/>
              </a:gs>
              <a:gs pos="100000">
                <a:srgbClr val="8ac8de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954080" y="3063960"/>
            <a:ext cx="35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1"/>
          <p:cNvGrpSpPr/>
          <p:nvPr/>
        </p:nvGrpSpPr>
        <p:grpSpPr>
          <a:xfrm>
            <a:off x="1803240" y="3749760"/>
            <a:ext cx="686880" cy="593280"/>
            <a:chOff x="1803240" y="3749760"/>
            <a:chExt cx="686880" cy="593280"/>
          </a:xfrm>
        </p:grpSpPr>
        <p:sp>
          <p:nvSpPr>
            <p:cNvPr id="172" name="AutoShape 12"/>
            <p:cNvSpPr/>
            <p:nvPr/>
          </p:nvSpPr>
          <p:spPr>
            <a:xfrm>
              <a:off x="1809000" y="375984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3" name="AutoShape 13"/>
            <p:cNvSpPr/>
            <p:nvPr/>
          </p:nvSpPr>
          <p:spPr>
            <a:xfrm>
              <a:off x="1803240" y="374976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4" name="AutoShape 14"/>
            <p:cNvSpPr/>
            <p:nvPr/>
          </p:nvSpPr>
          <p:spPr>
            <a:xfrm>
              <a:off x="1843200" y="3784680"/>
              <a:ext cx="59868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75" name="Text Box 15"/>
          <p:cNvSpPr/>
          <p:nvPr/>
        </p:nvSpPr>
        <p:spPr>
          <a:xfrm>
            <a:off x="1971720" y="3825720"/>
            <a:ext cx="35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555640" y="278100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555640" y="3573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55640" y="4365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9150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引起肺炎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535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h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内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5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65EB22A-CA8A-4230-A57C-DE3BA15898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6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C0854CD-0CCD-48E2-8BBA-FC4F1FD5E2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360" cy="503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4304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7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574CBAB-CDC8-44EF-8B3E-FBB87AEFB9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线形标注 2 2"/>
          <p:cNvSpPr/>
          <p:nvPr/>
        </p:nvSpPr>
        <p:spPr>
          <a:xfrm>
            <a:off x="3692520" y="1165320"/>
            <a:ext cx="5343120" cy="756720"/>
          </a:xfrm>
          <a:prstGeom prst="borderCallout2">
            <a:avLst>
              <a:gd name="adj1" fmla="val 52809"/>
              <a:gd name="adj2" fmla="val -1313"/>
              <a:gd name="adj3" fmla="val 52810"/>
              <a:gd name="adj4" fmla="val -651"/>
              <a:gd name="adj5" fmla="val 130744"/>
              <a:gd name="adj6" fmla="val -2490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保护胃黏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线形标注 1 3"/>
          <p:cNvSpPr/>
          <p:nvPr/>
        </p:nvSpPr>
        <p:spPr>
          <a:xfrm>
            <a:off x="3692520" y="1995480"/>
            <a:ext cx="5343120" cy="576000"/>
          </a:xfrm>
          <a:prstGeom prst="borderCallout1">
            <a:avLst>
              <a:gd name="adj1" fmla="val 49265"/>
              <a:gd name="adj2" fmla="val 4"/>
              <a:gd name="adj3" fmla="val 124941"/>
              <a:gd name="adj4" fmla="val -24623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线形标注 1 4"/>
          <p:cNvSpPr/>
          <p:nvPr/>
        </p:nvSpPr>
        <p:spPr>
          <a:xfrm>
            <a:off x="3692520" y="2690640"/>
            <a:ext cx="5343120" cy="1025280"/>
          </a:xfrm>
          <a:prstGeom prst="borderCallout1">
            <a:avLst>
              <a:gd name="adj1" fmla="val 49615"/>
              <a:gd name="adj2" fmla="val 4"/>
              <a:gd name="adj3" fmla="val 54583"/>
              <a:gd name="adj4" fmla="val -2498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线形标注 1 5"/>
          <p:cNvSpPr/>
          <p:nvPr/>
        </p:nvSpPr>
        <p:spPr>
          <a:xfrm>
            <a:off x="3708360" y="3860640"/>
            <a:ext cx="5327280" cy="576000"/>
          </a:xfrm>
          <a:prstGeom prst="borderCallout1">
            <a:avLst>
              <a:gd name="adj1" fmla="val 53333"/>
              <a:gd name="adj2" fmla="val -191"/>
              <a:gd name="adj3" fmla="val -6051"/>
              <a:gd name="adj4" fmla="val -2507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∶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线形标注 1 6"/>
          <p:cNvSpPr/>
          <p:nvPr/>
        </p:nvSpPr>
        <p:spPr>
          <a:xfrm>
            <a:off x="3708360" y="4653000"/>
            <a:ext cx="5327280" cy="720360"/>
          </a:xfrm>
          <a:prstGeom prst="borderCallout1">
            <a:avLst>
              <a:gd name="adj1" fmla="val 48028"/>
              <a:gd name="adj2" fmla="val -411"/>
              <a:gd name="adj3" fmla="val -44821"/>
              <a:gd name="adj4" fmla="val -25044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线形标注 1 7"/>
          <p:cNvSpPr/>
          <p:nvPr/>
        </p:nvSpPr>
        <p:spPr>
          <a:xfrm>
            <a:off x="3708360" y="5567400"/>
            <a:ext cx="5316120" cy="828360"/>
          </a:xfrm>
          <a:prstGeom prst="borderCallout1">
            <a:avLst>
              <a:gd name="adj1" fmla="val 51288"/>
              <a:gd name="adj2" fmla="val -395"/>
              <a:gd name="adj3" fmla="val -79080"/>
              <a:gd name="adj4" fmla="val -3134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6480" y="148464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严格把握洗胃的适应证和禁忌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胃管应缓慢、轻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入胃管后抽出的胃内容物，应留取标本及时送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每次注入量不宜过多或过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温度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CD2BAA1-D299-4D8D-A5AE-82B97EB741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24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过程中要密切观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机使用过程中的注意事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应尽早尽早、彻底、反复、多次，直到洗出液澄清无味为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完毕后有时需要保留胃管，以方便再次洗胃，尤其是有机磷中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9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4C1E6E7-22CE-466C-A2B9-1B37279504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Num" idx="30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0506C14-728D-4437-893A-BD19B73FB8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826920" y="33336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468360" y="907920"/>
            <a:ext cx="4601520" cy="720360"/>
            <a:chOff x="468360" y="907920"/>
            <a:chExt cx="4601520" cy="720360"/>
          </a:xfrm>
        </p:grpSpPr>
        <p:grpSp>
          <p:nvGrpSpPr>
            <p:cNvPr id="257" name="Group 5"/>
            <p:cNvGrpSpPr/>
            <p:nvPr/>
          </p:nvGrpSpPr>
          <p:grpSpPr>
            <a:xfrm>
              <a:off x="468360" y="907920"/>
              <a:ext cx="761760" cy="720360"/>
              <a:chOff x="468360" y="907920"/>
              <a:chExt cx="761760" cy="72036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474840" y="92016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9" name="AutoShape 7"/>
              <p:cNvSpPr/>
              <p:nvPr/>
            </p:nvSpPr>
            <p:spPr>
              <a:xfrm>
                <a:off x="468360" y="90792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0" name="AutoShape 8"/>
              <p:cNvSpPr/>
              <p:nvPr/>
            </p:nvSpPr>
            <p:spPr>
              <a:xfrm>
                <a:off x="468360" y="950760"/>
                <a:ext cx="720360" cy="60624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1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1279440" y="1131840"/>
              <a:ext cx="3790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652320" y="9630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2"/>
          <p:cNvGrpSpPr/>
          <p:nvPr/>
        </p:nvGrpSpPr>
        <p:grpSpPr>
          <a:xfrm>
            <a:off x="468360" y="1700280"/>
            <a:ext cx="4462200" cy="664560"/>
            <a:chOff x="468360" y="1700280"/>
            <a:chExt cx="4462200" cy="664560"/>
          </a:xfrm>
        </p:grpSpPr>
        <p:grpSp>
          <p:nvGrpSpPr>
            <p:cNvPr id="265" name="Group 13"/>
            <p:cNvGrpSpPr/>
            <p:nvPr/>
          </p:nvGrpSpPr>
          <p:grpSpPr>
            <a:xfrm>
              <a:off x="468360" y="1700280"/>
              <a:ext cx="811440" cy="664560"/>
              <a:chOff x="468360" y="1700280"/>
              <a:chExt cx="811440" cy="66456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475200" y="171144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468360" y="170028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515880" y="1740240"/>
                <a:ext cx="70596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9" name="Line 17"/>
            <p:cNvSpPr/>
            <p:nvPr/>
          </p:nvSpPr>
          <p:spPr>
            <a:xfrm>
              <a:off x="1081800" y="2276280"/>
              <a:ext cx="38487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8"/>
            <p:cNvSpPr/>
            <p:nvPr/>
          </p:nvSpPr>
          <p:spPr>
            <a:xfrm>
              <a:off x="1843200" y="1822320"/>
              <a:ext cx="170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675720" y="1751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0"/>
          <p:cNvGrpSpPr/>
          <p:nvPr/>
        </p:nvGrpSpPr>
        <p:grpSpPr>
          <a:xfrm>
            <a:off x="468360" y="2492280"/>
            <a:ext cx="4536720" cy="664920"/>
            <a:chOff x="468360" y="2492280"/>
            <a:chExt cx="4536720" cy="664920"/>
          </a:xfrm>
        </p:grpSpPr>
        <p:grpSp>
          <p:nvGrpSpPr>
            <p:cNvPr id="273" name="Group 21"/>
            <p:cNvGrpSpPr/>
            <p:nvPr/>
          </p:nvGrpSpPr>
          <p:grpSpPr>
            <a:xfrm>
              <a:off x="468360" y="2492280"/>
              <a:ext cx="761760" cy="664920"/>
              <a:chOff x="468360" y="2492280"/>
              <a:chExt cx="761760" cy="6649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474840" y="25038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5" name="AutoShape 23"/>
              <p:cNvSpPr/>
              <p:nvPr/>
            </p:nvSpPr>
            <p:spPr>
              <a:xfrm>
                <a:off x="468360" y="24922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6" name="AutoShape 24"/>
              <p:cNvSpPr/>
              <p:nvPr/>
            </p:nvSpPr>
            <p:spPr>
              <a:xfrm>
                <a:off x="512640" y="253224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77" name="Line 25"/>
            <p:cNvSpPr/>
            <p:nvPr/>
          </p:nvSpPr>
          <p:spPr>
            <a:xfrm>
              <a:off x="1044360" y="3068280"/>
              <a:ext cx="396072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26"/>
            <p:cNvSpPr/>
            <p:nvPr/>
          </p:nvSpPr>
          <p:spPr>
            <a:xfrm>
              <a:off x="2000520" y="2619360"/>
              <a:ext cx="20098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7"/>
            <p:cNvSpPr/>
            <p:nvPr/>
          </p:nvSpPr>
          <p:spPr>
            <a:xfrm>
              <a:off x="652320" y="2543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8"/>
          <p:cNvGrpSpPr/>
          <p:nvPr/>
        </p:nvGrpSpPr>
        <p:grpSpPr>
          <a:xfrm>
            <a:off x="468360" y="3284640"/>
            <a:ext cx="4535280" cy="664560"/>
            <a:chOff x="468360" y="3284640"/>
            <a:chExt cx="4535280" cy="664560"/>
          </a:xfrm>
        </p:grpSpPr>
        <p:grpSp>
          <p:nvGrpSpPr>
            <p:cNvPr id="281" name="Group 29"/>
            <p:cNvGrpSpPr/>
            <p:nvPr/>
          </p:nvGrpSpPr>
          <p:grpSpPr>
            <a:xfrm>
              <a:off x="468360" y="3284640"/>
              <a:ext cx="810720" cy="664560"/>
              <a:chOff x="468360" y="3284640"/>
              <a:chExt cx="810720" cy="664560"/>
            </a:xfrm>
          </p:grpSpPr>
          <p:sp>
            <p:nvSpPr>
              <p:cNvPr id="282" name="AutoShape 30"/>
              <p:cNvSpPr/>
              <p:nvPr/>
            </p:nvSpPr>
            <p:spPr>
              <a:xfrm>
                <a:off x="475200" y="329580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3" name="AutoShape 31"/>
              <p:cNvSpPr/>
              <p:nvPr/>
            </p:nvSpPr>
            <p:spPr>
              <a:xfrm>
                <a:off x="468360" y="328464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4" name="AutoShape 32"/>
              <p:cNvSpPr/>
              <p:nvPr/>
            </p:nvSpPr>
            <p:spPr>
              <a:xfrm>
                <a:off x="515880" y="3324240"/>
                <a:ext cx="67248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85" name="Line 33"/>
            <p:cNvSpPr/>
            <p:nvPr/>
          </p:nvSpPr>
          <p:spPr>
            <a:xfrm>
              <a:off x="1081440" y="3860640"/>
              <a:ext cx="3922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34"/>
            <p:cNvSpPr/>
            <p:nvPr/>
          </p:nvSpPr>
          <p:spPr>
            <a:xfrm>
              <a:off x="1581840" y="3335400"/>
              <a:ext cx="195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87" name="Text Box 35"/>
            <p:cNvSpPr/>
            <p:nvPr/>
          </p:nvSpPr>
          <p:spPr>
            <a:xfrm>
              <a:off x="675720" y="33354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68360" y="4076640"/>
            <a:ext cx="4535280" cy="664920"/>
            <a:chOff x="468360" y="4076640"/>
            <a:chExt cx="4535280" cy="664920"/>
          </a:xfrm>
        </p:grpSpPr>
        <p:grpSp>
          <p:nvGrpSpPr>
            <p:cNvPr id="289" name="Group 37"/>
            <p:cNvGrpSpPr/>
            <p:nvPr/>
          </p:nvGrpSpPr>
          <p:grpSpPr>
            <a:xfrm>
              <a:off x="468360" y="4076640"/>
              <a:ext cx="798480" cy="664920"/>
              <a:chOff x="468360" y="4076640"/>
              <a:chExt cx="798480" cy="664920"/>
            </a:xfrm>
          </p:grpSpPr>
          <p:sp>
            <p:nvSpPr>
              <p:cNvPr id="290" name="AutoShape 38"/>
              <p:cNvSpPr/>
              <p:nvPr/>
            </p:nvSpPr>
            <p:spPr>
              <a:xfrm>
                <a:off x="474840" y="408816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1" name="AutoShape 39"/>
              <p:cNvSpPr/>
              <p:nvPr/>
            </p:nvSpPr>
            <p:spPr>
              <a:xfrm>
                <a:off x="468360" y="407664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2" name="AutoShape 40"/>
              <p:cNvSpPr/>
              <p:nvPr/>
            </p:nvSpPr>
            <p:spPr>
              <a:xfrm>
                <a:off x="514080" y="4155840"/>
                <a:ext cx="69480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93" name="Line 41"/>
            <p:cNvSpPr/>
            <p:nvPr/>
          </p:nvSpPr>
          <p:spPr>
            <a:xfrm>
              <a:off x="1072440" y="4652640"/>
              <a:ext cx="3931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42"/>
            <p:cNvSpPr/>
            <p:nvPr/>
          </p:nvSpPr>
          <p:spPr>
            <a:xfrm>
              <a:off x="1565280" y="4148280"/>
              <a:ext cx="19260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2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95" name="Text Box 43"/>
            <p:cNvSpPr/>
            <p:nvPr/>
          </p:nvSpPr>
          <p:spPr>
            <a:xfrm>
              <a:off x="669960" y="4156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44"/>
          <p:cNvGrpSpPr/>
          <p:nvPr/>
        </p:nvGrpSpPr>
        <p:grpSpPr>
          <a:xfrm>
            <a:off x="468360" y="4869000"/>
            <a:ext cx="4608360" cy="664560"/>
            <a:chOff x="468360" y="4869000"/>
            <a:chExt cx="4608360" cy="664560"/>
          </a:xfrm>
        </p:grpSpPr>
        <p:grpSp>
          <p:nvGrpSpPr>
            <p:cNvPr id="297" name="Group 45"/>
            <p:cNvGrpSpPr/>
            <p:nvPr/>
          </p:nvGrpSpPr>
          <p:grpSpPr>
            <a:xfrm>
              <a:off x="468360" y="4869000"/>
              <a:ext cx="761760" cy="664560"/>
              <a:chOff x="468360" y="4869000"/>
              <a:chExt cx="761760" cy="664560"/>
            </a:xfrm>
          </p:grpSpPr>
          <p:sp>
            <p:nvSpPr>
              <p:cNvPr id="298" name="AutoShape 46"/>
              <p:cNvSpPr/>
              <p:nvPr/>
            </p:nvSpPr>
            <p:spPr>
              <a:xfrm>
                <a:off x="474840" y="488016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9" name="AutoShape 47"/>
              <p:cNvSpPr/>
              <p:nvPr/>
            </p:nvSpPr>
            <p:spPr>
              <a:xfrm>
                <a:off x="468360" y="48690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0" name="AutoShape 48"/>
              <p:cNvSpPr/>
              <p:nvPr/>
            </p:nvSpPr>
            <p:spPr>
              <a:xfrm>
                <a:off x="512640" y="490860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01" name="Line 49"/>
            <p:cNvSpPr/>
            <p:nvPr/>
          </p:nvSpPr>
          <p:spPr>
            <a:xfrm>
              <a:off x="1044360" y="544500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2007720" y="5006880"/>
              <a:ext cx="2314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41160" y="5002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矩形 55"/>
          <p:cNvSpPr/>
          <p:nvPr/>
        </p:nvSpPr>
        <p:spPr>
          <a:xfrm>
            <a:off x="1260360" y="3318480"/>
            <a:ext cx="4222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56"/>
          <p:cNvSpPr/>
          <p:nvPr/>
        </p:nvSpPr>
        <p:spPr>
          <a:xfrm>
            <a:off x="1272600" y="4184640"/>
            <a:ext cx="4150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44"/>
          <p:cNvGrpSpPr/>
          <p:nvPr/>
        </p:nvGrpSpPr>
        <p:grpSpPr>
          <a:xfrm>
            <a:off x="468360" y="5732640"/>
            <a:ext cx="4608360" cy="666360"/>
            <a:chOff x="468360" y="5732640"/>
            <a:chExt cx="4608360" cy="666360"/>
          </a:xfrm>
        </p:grpSpPr>
        <p:grpSp>
          <p:nvGrpSpPr>
            <p:cNvPr id="307" name="Group 45"/>
            <p:cNvGrpSpPr/>
            <p:nvPr/>
          </p:nvGrpSpPr>
          <p:grpSpPr>
            <a:xfrm>
              <a:off x="468360" y="5732640"/>
              <a:ext cx="761760" cy="666360"/>
              <a:chOff x="468360" y="5732640"/>
              <a:chExt cx="761760" cy="666360"/>
            </a:xfrm>
          </p:grpSpPr>
          <p:sp>
            <p:nvSpPr>
              <p:cNvPr id="308" name="AutoShape 46"/>
              <p:cNvSpPr/>
              <p:nvPr/>
            </p:nvSpPr>
            <p:spPr>
              <a:xfrm>
                <a:off x="474840" y="574380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9" name="AutoShape 47"/>
              <p:cNvSpPr/>
              <p:nvPr/>
            </p:nvSpPr>
            <p:spPr>
              <a:xfrm>
                <a:off x="468360" y="573264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0" name="AutoShape 48"/>
              <p:cNvSpPr/>
              <p:nvPr/>
            </p:nvSpPr>
            <p:spPr>
              <a:xfrm>
                <a:off x="512640" y="5771880"/>
                <a:ext cx="663120" cy="5760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11" name="Line 49"/>
            <p:cNvSpPr/>
            <p:nvPr/>
          </p:nvSpPr>
          <p:spPr>
            <a:xfrm>
              <a:off x="1044360" y="631008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50"/>
            <p:cNvSpPr/>
            <p:nvPr/>
          </p:nvSpPr>
          <p:spPr>
            <a:xfrm>
              <a:off x="1910520" y="584532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1"/>
            <p:cNvSpPr/>
            <p:nvPr/>
          </p:nvSpPr>
          <p:spPr>
            <a:xfrm>
              <a:off x="667800" y="58741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3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812D00F-3033-4321-9C24-76010048B2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圆角矩形 4"/>
          <p:cNvSpPr/>
          <p:nvPr/>
        </p:nvSpPr>
        <p:spPr>
          <a:xfrm>
            <a:off x="357120" y="2286000"/>
            <a:ext cx="8496000" cy="35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急诊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发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3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评估各种常见急性中毒患者的健康状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施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5E3895E-B4C3-4F4A-B924-32C88D60F4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33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lang="en-US" sz="32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3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35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2" name="圆角矩形 4"/>
          <p:cNvSpPr/>
          <p:nvPr/>
        </p:nvSpPr>
        <p:spPr>
          <a:xfrm>
            <a:off x="324000" y="2276640"/>
            <a:ext cx="8496000" cy="3168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家庭矛盾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百草枯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0ml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兑水后吞服，出现恶心、呕吐，呕吐物为草绿色胃内容物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意识清楚，咽部充血，口腔黏膜损伤。胸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线示：双肺纹理增强。诊断为百草枯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5" name="圆角矩形 3"/>
          <p:cNvSpPr/>
          <p:nvPr/>
        </p:nvSpPr>
        <p:spPr>
          <a:xfrm>
            <a:off x="179280" y="2276640"/>
            <a:ext cx="8784720" cy="3096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误服含毒鼠强成分的饼干后出现头晕、心悸，后神志不清，二便失禁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9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1/77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0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面色青灰，口唇、指端重度发绀，反复强直抽搐，双肺布满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Num" idx="9"/>
          </p:nvPr>
        </p:nvSpPr>
        <p:spPr>
          <a:xfrm>
            <a:off x="4067280" y="6524640"/>
            <a:ext cx="11314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C320656-E41F-497A-A1EC-B1BEB00B5C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9640" y="1785960"/>
            <a:ext cx="8299080" cy="443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溴鼠隆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0" name="线形标注 2 1"/>
          <p:cNvSpPr/>
          <p:nvPr/>
        </p:nvSpPr>
        <p:spPr>
          <a:xfrm>
            <a:off x="4245120" y="1197000"/>
            <a:ext cx="4647960" cy="1152000"/>
          </a:xfrm>
          <a:prstGeom prst="borderCallout2">
            <a:avLst>
              <a:gd name="adj1" fmla="val 53334"/>
              <a:gd name="adj2" fmla="val -515"/>
              <a:gd name="adj3" fmla="val 52316"/>
              <a:gd name="adj4" fmla="val -274"/>
              <a:gd name="adj5" fmla="val 152763"/>
              <a:gd name="adj6" fmla="val -2228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线形标注 2 4"/>
          <p:cNvSpPr/>
          <p:nvPr/>
        </p:nvSpPr>
        <p:spPr>
          <a:xfrm>
            <a:off x="4290840" y="2637000"/>
            <a:ext cx="4647960" cy="1079280"/>
          </a:xfrm>
          <a:prstGeom prst="borderCallout2">
            <a:avLst>
              <a:gd name="adj1" fmla="val 50243"/>
              <a:gd name="adj2" fmla="val -262"/>
              <a:gd name="adj3" fmla="val 48071"/>
              <a:gd name="adj4" fmla="val -526"/>
              <a:gd name="adj5" fmla="val 85019"/>
              <a:gd name="adj6" fmla="val -2305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 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线形标注 2 5"/>
          <p:cNvSpPr/>
          <p:nvPr/>
        </p:nvSpPr>
        <p:spPr>
          <a:xfrm>
            <a:off x="4290840" y="3933000"/>
            <a:ext cx="4647960" cy="1150560"/>
          </a:xfrm>
          <a:prstGeom prst="borderCallout2">
            <a:avLst>
              <a:gd name="adj1" fmla="val 49307"/>
              <a:gd name="adj2" fmla="val -515"/>
              <a:gd name="adj3" fmla="val 18750"/>
              <a:gd name="adj4" fmla="val -16667"/>
              <a:gd name="adj5" fmla="val 18246"/>
              <a:gd name="adj6" fmla="val -1654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线形标注 2 6"/>
          <p:cNvSpPr/>
          <p:nvPr/>
        </p:nvSpPr>
        <p:spPr>
          <a:xfrm>
            <a:off x="4290840" y="5300640"/>
            <a:ext cx="4647960" cy="1007640"/>
          </a:xfrm>
          <a:prstGeom prst="borderCallout2">
            <a:avLst>
              <a:gd name="adj1" fmla="val 52475"/>
              <a:gd name="adj2" fmla="val -262"/>
              <a:gd name="adj3" fmla="val 54801"/>
              <a:gd name="adj4" fmla="val -526"/>
              <a:gd name="adj5" fmla="val -51036"/>
              <a:gd name="adj6" fmla="val -2290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8" name="圆角矩形 3"/>
          <p:cNvSpPr/>
          <p:nvPr/>
        </p:nvSpPr>
        <p:spPr>
          <a:xfrm>
            <a:off x="179280" y="2276640"/>
            <a:ext cx="8784720" cy="38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儿，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因误吸入煤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，昏睡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7/57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患儿呈昏迷状，面色苍白，口唇发绀，对外界刺激无反应，双侧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存在，压眶反射存在，四肢肌力、肌张力减弱，颈软，巴宾斯基征阳性，腱反射减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2920" y="1371600"/>
            <a:ext cx="8343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碳氧血红蛋白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69" name="圆角矩形 4"/>
          <p:cNvSpPr/>
          <p:nvPr/>
        </p:nvSpPr>
        <p:spPr>
          <a:xfrm>
            <a:off x="324000" y="2349360"/>
            <a:ext cx="8496000" cy="259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同事生日聚会饮用高度白酒至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意识不清，呕吐物有酒精气味，平车入院。入院查体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 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 1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2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P 90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诊断为急性酒精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酒精，学名乙醇，是日常生活中各类酒饮料的主要成分，也可用作医用消毒剂、工业原料等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机制：中枢神经系统损害、代谢异常、心脏损害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10"/>
          </p:nvPr>
        </p:nvSpPr>
        <p:spPr>
          <a:xfrm>
            <a:off x="4284720" y="6524640"/>
            <a:ext cx="1223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CE4D6BD-CE23-4BF1-904C-CBB98A9077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000" y="1628640"/>
            <a:ext cx="851508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82" name="圆角矩形 3"/>
          <p:cNvSpPr/>
          <p:nvPr/>
        </p:nvSpPr>
        <p:spPr>
          <a:xfrm>
            <a:off x="324000" y="2349360"/>
            <a:ext cx="8496000" cy="2808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因昏迷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7.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5/83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&lt;2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消失。颈软，气管偏右，双肺布满鼾音。胃内容物及尿检为巴比妥类药物阳性，诊断为重度巴比妥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64120" cy="4474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36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96" name="圆角矩形 4"/>
          <p:cNvSpPr/>
          <p:nvPr/>
        </p:nvSpPr>
        <p:spPr>
          <a:xfrm>
            <a:off x="179280" y="2133720"/>
            <a:ext cx="8784720" cy="4319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前因情绪不佳口服实验室用稀硫酸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l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服后即感咽喉部、食道灼痛，眼部刺痛，畏光流泪，频发恶心、呕吐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in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后呕吐咖啡渣样物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00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0/60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急性痛苦貌，呼吸急促，烦躁不安。口腔黏膜呈深褐色，双肺散在中、细湿啰音，胸片表现为双肺纹理增粗、紊乱呈现模糊或斑片状。心电图示：窦性心动过速，偶见室性早搏、房室传导阻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Num" idx="11"/>
          </p:nvPr>
        </p:nvSpPr>
        <p:spPr>
          <a:xfrm>
            <a:off x="4427640" y="6524640"/>
            <a:ext cx="9140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9F5172B-2DBD-4603-A81D-114E6DDBA5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640" y="1413000"/>
            <a:ext cx="856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37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睛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38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5" name="线形标注 1 4"/>
          <p:cNvSpPr/>
          <p:nvPr/>
        </p:nvSpPr>
        <p:spPr>
          <a:xfrm>
            <a:off x="3419640" y="1125360"/>
            <a:ext cx="5544720" cy="3671640"/>
          </a:xfrm>
          <a:prstGeom prst="borderCallout1">
            <a:avLst>
              <a:gd name="adj1" fmla="val 20346"/>
              <a:gd name="adj2" fmla="val 123"/>
              <a:gd name="adj3" fmla="val 49305"/>
              <a:gd name="adj4" fmla="val -881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线形标注 1 5"/>
          <p:cNvSpPr/>
          <p:nvPr/>
        </p:nvSpPr>
        <p:spPr>
          <a:xfrm>
            <a:off x="3429000" y="1714320"/>
            <a:ext cx="5513040" cy="4817880"/>
          </a:xfrm>
          <a:prstGeom prst="borderCallout1">
            <a:avLst>
              <a:gd name="adj1" fmla="val 49651"/>
              <a:gd name="adj2" fmla="val -678"/>
              <a:gd name="adj3" fmla="val 38799"/>
              <a:gd name="adj4" fmla="val -872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39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dt" idx="40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矩形 4"/>
          <p:cNvSpPr/>
          <p:nvPr/>
        </p:nvSpPr>
        <p:spPr>
          <a:xfrm>
            <a:off x="3178800" y="2709000"/>
            <a:ext cx="275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299" strike="noStrike">
                <a:solidFill>
                  <a:srgbClr val="8adeff"/>
                </a:solidFill>
                <a:latin typeface="Arial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2" name="内容占位符 4"/>
          <p:cNvGraphicFramePr/>
          <p:nvPr/>
        </p:nvGraphicFramePr>
        <p:xfrm>
          <a:off x="539640" y="2133720"/>
          <a:ext cx="7703640" cy="3400920"/>
        </p:xfrm>
        <a:graphic>
          <a:graphicData uri="http://schemas.openxmlformats.org/drawingml/2006/table">
            <a:tbl>
              <a:tblPr/>
              <a:tblGrid>
                <a:gridCol w="3852000"/>
                <a:gridCol w="3852000"/>
              </a:tblGrid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PlaceHolder 2"/>
          <p:cNvSpPr>
            <a:spLocks noGrp="1"/>
          </p:cNvSpPr>
          <p:nvPr>
            <p:ph type="dt" idx="1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2484360" y="1476000"/>
            <a:ext cx="395892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3"/>
          </p:nvPr>
        </p:nvSpPr>
        <p:spPr>
          <a:xfrm>
            <a:off x="4284720" y="6524640"/>
            <a:ext cx="12236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42EBCE5-D17A-4678-820C-B051A3C7B0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79280" y="1628640"/>
            <a:ext cx="865944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14"/>
          </p:nvPr>
        </p:nvSpPr>
        <p:spPr>
          <a:xfrm>
            <a:off x="4356000" y="6524640"/>
            <a:ext cx="120132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FAFD5CB-FCDA-4F8C-AB08-C1E8B919BD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0" y="1628640"/>
            <a:ext cx="883872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催吐：是排空胃内容物最简单、最有效的方法，但此方法仅限于清醒且合作的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：是彻底清除胃内容物的有效方法，也是口服毒物中毒患者抢救成功的重要措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导泻 ：在催吐或彻底洗胃后，通过口服或由胃管注入泻药，加速肠蠕动，减少毒物在肠道内的停留时间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灌肠：是快速有效的肠道毒物清除方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  <Pages>0</Pages>
  <Words>3539</Words>
  <Characters>0</Characters>
  <CharactersWithSpaces>0</CharactersWithSpaces>
  <Paragraphs>452</Paragraphs>
  <Company>pum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2-10T08:04:14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  <property fmtid="{D5CDD505-2E9C-101B-9397-08002B2CF9AE}" pid="3" name="Notes">
    <vt:r8>13</vt:r8>
  </property>
  <property fmtid="{D5CDD505-2E9C-101B-9397-08002B2CF9AE}" pid="4" name="PresentationFormat">
    <vt:lpwstr>全屏显示(4:3)</vt:lpwstr>
  </property>
  <property fmtid="{D5CDD505-2E9C-101B-9397-08002B2CF9AE}" pid="5" name="Slides">
    <vt:r8>64</vt:r8>
  </property>
</Properties>
</file>